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062-9681-4F5E-940E-465F9B5F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B3F-99E9-4F3B-B17A-C9B0AD1E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157-2C4A-45E5-8B27-39FF8F8E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C6F-FE64-45E7-A879-FB661AD7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F99-09EC-4939-A29B-680C4BC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417-F8C3-4390-92B8-3F96D6DD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94B-9723-427B-80DA-8F5FC76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F10-596F-496F-A3A2-094093D7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1C2-53BC-4974-AD3B-1D537043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D42-95FB-4776-A038-D985034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48B-BBAF-4FB9-B7F8-576F5A91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692-5AB4-4E2B-8F6C-15508DDE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3029-53BC-4166-8DF6-F3A772313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914400"/>
            <a:ext cx="716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ments of Desig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5627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Arial"/>
              </a:rPr>
              <a:t>Fantas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9548"/>
          <a:stretch/>
        </p:blipFill>
        <p:spPr>
          <a:xfrm>
            <a:off x="1066680" y="609480"/>
            <a:ext cx="7086600" cy="441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66880" y="54100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571680"/>
            <a:ext cx="6934320" cy="541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limentary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7720" y="228600"/>
            <a:ext cx="429444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omplimentary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91160" cy="4898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Complimentary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94240" cy="632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Sa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700200"/>
            <a:ext cx="7467480" cy="49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6019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heer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810240" cy="532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38680" y="1523880"/>
            <a:ext cx="2971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Warm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172200" cy="490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7920" y="5562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anger       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7400" y="825480"/>
            <a:ext cx="5638680" cy="469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43200" y="5791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C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4:40:49Z</dcterms:created>
  <dc:creator>Patrick J. Mooney</dc:creator>
  <dc:description/>
  <dc:language>en-US</dc:language>
  <cp:lastModifiedBy>Patrick J. Mooney</cp:lastModifiedBy>
  <dcterms:modified xsi:type="dcterms:W3CDTF">2012-02-21T05:05:35Z</dcterms:modified>
  <cp:revision>7</cp:revision>
  <dc:subject/>
  <dc:title>Slide 1</dc:title>
</cp:coreProperties>
</file>